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5FF-0657-43ED-9EA6-30146401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123-3BBD-4596-B567-DDB9C23A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CF2-D789-4B07-8736-25DBDF85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756-374F-465D-A6FA-8C400E1D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E24-2B9E-4663-954B-22674682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98F-4E4D-4BFC-8D84-F243564C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E14-D2B4-482F-8B1D-89B04464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2B6-FF65-4F8F-91A5-F48D66B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24C-9566-422B-A6C2-78430858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FF6F-1F4D-493C-9924-03294DE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E37-03C6-4C28-903A-DCDFDD4D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1F4-7350-4FBA-80FC-B15E863F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B6B-D4A1-40ED-85F5-E4570B416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0400" y="2727000"/>
            <a:ext cx="810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081f"/>
                </a:solidFill>
                <a:latin typeface="宋体"/>
              </a:rPr>
              <a:t>第二单元  我们周围的空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400040" y="1106640"/>
            <a:ext cx="6343920" cy="2904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652760" y="4138560"/>
            <a:ext cx="6076800" cy="13906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5773680" y="1496880"/>
            <a:ext cx="1157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416480" y="1984320"/>
            <a:ext cx="495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497400" y="24433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5757840" y="2457360"/>
            <a:ext cx="5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562120" y="290664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747960" y="3497400"/>
            <a:ext cx="193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2292480" y="4572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4757760" y="4578480"/>
            <a:ext cx="29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892160" y="5027760"/>
            <a:ext cx="3865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409760" y="558720"/>
            <a:ext cx="63244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087640" y="3436920"/>
            <a:ext cx="5648400" cy="28195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5699160" y="92880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103560" y="141588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6688080" y="143028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3689280" y="247824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570040" y="3422520"/>
            <a:ext cx="1737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3446640" y="3895560"/>
            <a:ext cx="1449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2287440" y="435276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7334280" y="4352760"/>
            <a:ext cx="401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125800" y="4840200"/>
            <a:ext cx="3079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3608280" y="529920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5818320" y="531324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2570040" y="5786280"/>
            <a:ext cx="47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400040" y="3005280"/>
            <a:ext cx="6343920" cy="847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3689280" y="2924280"/>
            <a:ext cx="19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972480" y="2916360"/>
            <a:ext cx="801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1576440" y="3379680"/>
            <a:ext cx="44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519120"/>
            <a:ext cx="2333520" cy="35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2330280" y="519120"/>
            <a:ext cx="6542280" cy="5924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3900600" y="915840"/>
            <a:ext cx="801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011560" y="1343160"/>
            <a:ext cx="3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5877000" y="1332000"/>
            <a:ext cx="39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3841920" y="2025720"/>
            <a:ext cx="1110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3841920" y="2300400"/>
            <a:ext cx="801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5280120" y="1870200"/>
            <a:ext cx="80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5046840" y="2133720"/>
            <a:ext cx="10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5046840" y="2386080"/>
            <a:ext cx="1004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6186600" y="1947960"/>
            <a:ext cx="981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6157800" y="230832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7916760" y="120492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8348760" y="1844640"/>
            <a:ext cx="4014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8379000" y="2050920"/>
            <a:ext cx="3999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7389720" y="2478240"/>
            <a:ext cx="401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6143760" y="3465360"/>
            <a:ext cx="596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7653240" y="373068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1"/>
          <p:cNvSpPr/>
          <p:nvPr/>
        </p:nvSpPr>
        <p:spPr>
          <a:xfrm>
            <a:off x="4522680" y="4290840"/>
            <a:ext cx="400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2"/>
          <p:cNvSpPr/>
          <p:nvPr/>
        </p:nvSpPr>
        <p:spPr>
          <a:xfrm>
            <a:off x="5477040" y="4836960"/>
            <a:ext cx="3999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3"/>
          <p:cNvSpPr/>
          <p:nvPr/>
        </p:nvSpPr>
        <p:spPr>
          <a:xfrm>
            <a:off x="5786280" y="515772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4032360" y="5173560"/>
            <a:ext cx="4014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5"/>
          <p:cNvSpPr/>
          <p:nvPr/>
        </p:nvSpPr>
        <p:spPr>
          <a:xfrm>
            <a:off x="4032360" y="5479920"/>
            <a:ext cx="4014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6"/>
          <p:cNvSpPr/>
          <p:nvPr/>
        </p:nvSpPr>
        <p:spPr>
          <a:xfrm>
            <a:off x="5594400" y="5465880"/>
            <a:ext cx="401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7"/>
          <p:cNvSpPr/>
          <p:nvPr/>
        </p:nvSpPr>
        <p:spPr>
          <a:xfrm>
            <a:off x="6545160" y="5859360"/>
            <a:ext cx="4017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3886200" y="5861160"/>
            <a:ext cx="3999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9"/>
          <p:cNvSpPr/>
          <p:nvPr/>
        </p:nvSpPr>
        <p:spPr>
          <a:xfrm>
            <a:off x="3914640" y="606420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0"/>
          <p:cNvSpPr/>
          <p:nvPr/>
        </p:nvSpPr>
        <p:spPr>
          <a:xfrm>
            <a:off x="7470720" y="4351320"/>
            <a:ext cx="4017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1"/>
          <p:cNvSpPr/>
          <p:nvPr/>
        </p:nvSpPr>
        <p:spPr>
          <a:xfrm>
            <a:off x="8389800" y="456876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2"/>
          <p:cNvSpPr/>
          <p:nvPr/>
        </p:nvSpPr>
        <p:spPr>
          <a:xfrm>
            <a:off x="7281720" y="478800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3"/>
          <p:cNvSpPr/>
          <p:nvPr/>
        </p:nvSpPr>
        <p:spPr>
          <a:xfrm>
            <a:off x="7389720" y="5410080"/>
            <a:ext cx="4017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4"/>
          <p:cNvSpPr/>
          <p:nvPr/>
        </p:nvSpPr>
        <p:spPr>
          <a:xfrm>
            <a:off x="7835760" y="5965920"/>
            <a:ext cx="4003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5"/>
          <p:cNvSpPr/>
          <p:nvPr/>
        </p:nvSpPr>
        <p:spPr>
          <a:xfrm>
            <a:off x="5164200" y="4014720"/>
            <a:ext cx="801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362240" y="971640"/>
            <a:ext cx="6419520" cy="4914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468760" y="188748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901880" y="23796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084480" y="2386080"/>
            <a:ext cx="1370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1901880" y="287352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1901880" y="3868560"/>
            <a:ext cx="801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3549600" y="3868560"/>
            <a:ext cx="801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4995720" y="386064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3755880" y="43560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995720" y="436248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6270480" y="4362480"/>
            <a:ext cx="1236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5513400" y="4879800"/>
            <a:ext cx="801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6921360" y="4863960"/>
            <a:ext cx="527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1901880" y="535932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380960" y="1038240"/>
            <a:ext cx="6382080" cy="4781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4491000" y="1430280"/>
            <a:ext cx="800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120760" y="193212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521080" y="2525760"/>
            <a:ext cx="2226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748040" y="3500280"/>
            <a:ext cx="30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2120760" y="3986280"/>
            <a:ext cx="4633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089240" y="4487760"/>
            <a:ext cx="3284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4519440" y="4960800"/>
            <a:ext cx="258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6221520" y="496080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519200" y="2247840"/>
            <a:ext cx="6105600" cy="2362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720880" y="2668680"/>
            <a:ext cx="397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992240" y="315612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224840" y="2668680"/>
            <a:ext cx="399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3209760" y="3156120"/>
            <a:ext cx="3294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224160" y="4129200"/>
            <a:ext cx="506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5159520" y="4129200"/>
            <a:ext cx="102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409760" y="1295280"/>
            <a:ext cx="632448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3986280" y="168912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303960" y="168912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742000" y="314784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604960" y="363528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670280" y="412272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537080" y="461016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2859120" y="511164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371600" y="2062080"/>
            <a:ext cx="6400800" cy="2733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3560760" y="197640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832280" y="198756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6111720" y="197640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711760" y="2919240"/>
            <a:ext cx="1201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560760" y="386388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513480" y="4321080"/>
            <a:ext cx="102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380960" y="1386000"/>
            <a:ext cx="6382080" cy="4086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302600" y="1778040"/>
            <a:ext cx="4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528920" y="2249640"/>
            <a:ext cx="801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330280" y="273672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689280" y="271476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890960" y="270036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491000" y="3649680"/>
            <a:ext cx="800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3913200" y="412272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2857680" y="459576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395360" y="2038320"/>
            <a:ext cx="6353280" cy="2781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4697280" y="2946240"/>
            <a:ext cx="80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707080" y="2954160"/>
            <a:ext cx="801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075200" y="389412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分段箭头1 464"/>
          <p:cNvSpPr/>
          <p:nvPr/>
        </p:nvSpPr>
        <p:spPr>
          <a:xfrm>
            <a:off x="8317080" y="374760"/>
            <a:ext cx="502920" cy="14436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分段箭头1 464"/>
          <p:cNvSpPr/>
          <p:nvPr/>
        </p:nvSpPr>
        <p:spPr>
          <a:xfrm rot="10800000">
            <a:off x="324000" y="6308280"/>
            <a:ext cx="504720" cy="142920"/>
          </a:xfrm>
          <a:custGeom>
            <a:avLst/>
            <a:gdLst/>
            <a:ahLst/>
            <a:rect l="l" t="t" r="r" b="b"/>
            <a:pathLst>
              <a:path w="1437086" h="619125">
                <a:moveTo>
                  <a:pt x="837769" y="0"/>
                </a:moveTo>
                <a:lnTo>
                  <a:pt x="1129014" y="2"/>
                </a:lnTo>
                <a:lnTo>
                  <a:pt x="1437086" y="314833"/>
                </a:lnTo>
                <a:lnTo>
                  <a:pt x="1126115" y="619125"/>
                </a:lnTo>
                <a:lnTo>
                  <a:pt x="836416" y="619125"/>
                </a:lnTo>
                <a:lnTo>
                  <a:pt x="1146598" y="315604"/>
                </a:lnTo>
                <a:lnTo>
                  <a:pt x="837769" y="0"/>
                </a:lnTo>
                <a:close/>
                <a:moveTo>
                  <a:pt x="476241" y="0"/>
                </a:moveTo>
                <a:lnTo>
                  <a:pt x="767481" y="0"/>
                </a:lnTo>
                <a:lnTo>
                  <a:pt x="1075554" y="314833"/>
                </a:lnTo>
                <a:lnTo>
                  <a:pt x="764585" y="619125"/>
                </a:lnTo>
                <a:lnTo>
                  <a:pt x="474886" y="619125"/>
                </a:lnTo>
                <a:lnTo>
                  <a:pt x="785067" y="315602"/>
                </a:lnTo>
                <a:lnTo>
                  <a:pt x="476241" y="0"/>
                </a:lnTo>
                <a:close/>
                <a:moveTo>
                  <a:pt x="0" y="0"/>
                </a:moveTo>
                <a:lnTo>
                  <a:pt x="405948" y="0"/>
                </a:lnTo>
                <a:lnTo>
                  <a:pt x="714025" y="314832"/>
                </a:lnTo>
                <a:lnTo>
                  <a:pt x="403054" y="619125"/>
                </a:lnTo>
                <a:lnTo>
                  <a:pt x="0" y="61912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386000" y="1533600"/>
            <a:ext cx="6372000" cy="3790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5729400" y="191772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689280" y="240516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505480" y="2405160"/>
            <a:ext cx="80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3767040" y="2979720"/>
            <a:ext cx="1859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780240" y="3468600"/>
            <a:ext cx="8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531120" y="3940200"/>
            <a:ext cx="1226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2057400" y="4413240"/>
            <a:ext cx="57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2057400" y="48672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5T03:32:15Z</dcterms:created>
  <dc:creator> </dc:creator>
  <dc:description> </dc:description>
  <dc:language>en-US</dc:language>
  <cp:lastModifiedBy>gongshengfang</cp:lastModifiedBy>
  <dcterms:modified xsi:type="dcterms:W3CDTF">2016-12-05T03:32:3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